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4D033-CC16-4B35-BB31-01DE7D0496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58A0D-EF62-4399-B24A-2BBE788E43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0D262-4363-4A24-A91C-56BAC96CA2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27A5E-40D0-456A-BCE1-9CE4433C65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805D9-32D1-4579-B152-06BA339833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8A925-195C-4AB7-A2BD-4BFC48329F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06A62-A37B-44AE-9768-711CB59DF6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15655-2047-4042-B356-6DDE877A8B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DADAD-F674-4C84-A3F4-B93F150B82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29BBD-EE2D-4594-8DDF-B5CD8206B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98C8F-7698-4D6A-8603-6C4A335AD7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E391E-8F9D-4228-A13D-A872B54263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B7E2-D51A-4A89-84E5-E762ACE5595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030320" y="637056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9 Intel Corporation. All rights reserved. Intel, the Intel logo, Intel Education Initiative, and the Intel Teach Program are trademarks of Intel Corporation in the U.S.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480000" y="307800"/>
            <a:ext cx="2184480" cy="1092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493884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70680"/>
            <a:ext cx="482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484200" y="65484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Copyright © 2009 Intel Corporation. All rights reserved. Intel, the Intel logo, Intel Education Initiative, and the Intel Teach Program are trademarks of Intel Corporation in the U.S.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61880" y="2152800"/>
            <a:ext cx="8301240" cy="2552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c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ducation.intel.com/au/ProjectDesign" TargetMode="External"/><Relationship Id="rId2" Type="http://schemas.openxmlformats.org/officeDocument/2006/relationships/hyperlink" Target="http://education.intel.com/au/ProjectDesign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seeingreason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tmd.com.au/education/thinking/resources" TargetMode="External"/><Relationship Id="rId2" Type="http://schemas.openxmlformats.org/officeDocument/2006/relationships/hyperlink" Target="http://www.tmd.com.au/education/thinking/resources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493884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Intel</a:t>
            </a:r>
            <a:r>
              <a:rPr b="0" lang="en-US" sz="4100" spc="-1" strike="noStrike" baseline="30000">
                <a:solidFill>
                  <a:srgbClr val="0860a8"/>
                </a:solidFill>
                <a:latin typeface="Verdana"/>
              </a:rPr>
              <a:t>®</a:t>
            </a: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 Teach Program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5599080"/>
            <a:ext cx="8763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c00"/>
                </a:solidFill>
                <a:latin typeface="Verdana"/>
              </a:rPr>
              <a:t>Thinking with Technology Course</a:t>
            </a:r>
            <a:endParaRPr b="1" lang="en-US" sz="1800" spc="-1" strike="noStrike">
              <a:solidFill>
                <a:srgbClr val="ff5c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c00"/>
                </a:solidFill>
                <a:latin typeface="Verdana"/>
              </a:rPr>
              <a:t>Version 2 </a:t>
            </a:r>
            <a:endParaRPr b="1" lang="en-US" sz="1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3: Creating Curriculum-Framing Questions to Support Thinking Skills</a:t>
            </a:r>
            <a:br>
              <a:rPr sz="10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8783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Content Questions -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3.04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 supporting, fact-based ques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 categorized as closed ques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lp strengthen and develop students’ understanding of larger ques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at route did the early explorer’s take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at were the explorers looking for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View additional examples of Curriculum Framing Questions in Appendix B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94400" y="1371600"/>
            <a:ext cx="4449600" cy="44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05FC4-9007-484A-905C-3F23AC70ED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3: Creating Curriculum Framing Questions to Support Thinking Skills</a:t>
            </a:r>
            <a:br>
              <a:rPr sz="10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br>
              <a:rPr sz="24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Building Understanding of Curriculum Framing Questions -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3.05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1200"/>
            </a:b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Your trainer will take you through a collaborative activity which will explore how essential, unit and content questions can be defined and how they differ. 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You will find this a helpful activity to build your Participant Teachers’ understanding of Curriculum Framing Questions, and how to use them to plan a unit of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Group discussion and collaboration is a wonderful way to increase understanding of new and complex concep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94CA5-6D23-413E-B942-F616F76557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3: Creating Curriculum Framing Questions to Support Thinking Skills</a:t>
            </a:r>
            <a:br>
              <a:rPr sz="10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br>
              <a:rPr sz="20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3: Practicing with Questions -</a:t>
            </a: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3.06-3.10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95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rmine Essential Ques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dentify Essential, Unit, and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ntent Ques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ew “big idea” concep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se Essential Questions using big idea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ork with a partner to brainstorm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ig idea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raft Essential Ques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975200" y="1971720"/>
            <a:ext cx="3787920" cy="404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EC998-ABE4-42F4-96C5-A1E794AEAC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3: Creating Curriculum Framing Questions to Support Thinking Skills</a:t>
            </a:r>
            <a:br>
              <a:rPr sz="10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br>
              <a:rPr sz="20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4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Writing Essential and Unit Questions -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3.11–3.12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375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vide into small group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reate questions that will motivate students and target higher order thin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member to write questions in student-appropriate languag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973A9-7AFB-41BF-B4D4-5707CEA799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3: Creating Curriculum Framing Questions to Support Thinking Skills</a:t>
            </a:r>
            <a:br>
              <a:rPr sz="12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3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upporting Higher Order Thinking Skills with Curriculum Framing Questions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-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3.13 – 3.14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Looking Deeper into a Uni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3.13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ork with a partn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ew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rowing a Busines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unit pla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the Curriculum Framing Questions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Focusing on Curriculum Framing Questions Used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 in Units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3.14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several of the unit plans and project ideas at: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education.Intel.com/au/ProjectDesign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cus on how the Curriculum Framing Questions are infused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rite any ideas for Curriculum Framing Questions you might be able to use in your classroo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C1663-7922-4C4A-8DF3-114DAFA9F2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3: Creating Curriculum Framing Questions to Support Thinking Skills</a:t>
            </a:r>
            <a:br>
              <a:rPr sz="12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4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6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  <a:ea typeface="Times New Roman"/>
              </a:rPr>
              <a:t>Writing Your Own Curriculum Framing Questions -</a:t>
            </a:r>
            <a:br>
              <a:rPr sz="2400"/>
            </a:br>
            <a:r>
              <a:rPr b="0" lang="en-US" sz="1200" spc="-1" strike="noStrike">
                <a:solidFill>
                  <a:srgbClr val="0860a8"/>
                </a:solidFill>
                <a:latin typeface="Verdana"/>
                <a:ea typeface="Times New Roman"/>
              </a:rPr>
              <a:t>Module 3.15 – 3.18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518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Creating a First Draft of Questions -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3.15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Tips for writ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nk about why you are studying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at is the long-term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nderstanding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cus on brainstorm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y away from definitional ques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itially write the questions in adult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anguage then rewrite i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udent-appropriate languag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62480" y="1371600"/>
            <a:ext cx="3881520" cy="39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074FA-994F-4497-A17C-2EFD459068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3: Creating Curriculum Framing Questions to Support Thinking Skills</a:t>
            </a:r>
            <a:br>
              <a:rPr sz="12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4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  <a:ea typeface="Times New Roman"/>
              </a:rPr>
              <a:t>Writing Your Own Curriculum Framing Questions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600"/>
            </a:b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25240" y="1600200"/>
            <a:ext cx="8389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Creating a First Draft of Questions -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3.16 – 3.17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eate a first draft of your Curriculum Framing Ques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big (Essential) and work to small (Conten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small (Content) and work to big (Essential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Targeting Thinking Skills When Revising Questions -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3.18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nsider thinking skills when revising ques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9DF60-0B42-476A-B5D3-8BFD9E453E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6882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3: Creating Curriculum Framing Questions to Suppor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5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haring Your Curriculum Framing Question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-</a:t>
            </a:r>
            <a:br>
              <a:rPr sz="1600"/>
            </a:b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3.19</a:t>
            </a:r>
            <a:br>
              <a:rPr sz="1600"/>
            </a:b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760" y="1828440"/>
            <a:ext cx="8237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small grou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e your Curriculum Framing Ques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est ideas for improv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e feedback and revision ide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DCDBC-179E-404B-8542-E95F3F5C87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3: Creating Curriculum-Framing Questions to Support Thinking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6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upporting Deeper Thinking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3.20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Updating Your Ma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ith your partner, return to your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map at: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seeingreason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nsider your work with Curriculum Framing Ques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se your ma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at additional factors might you want to add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dd the relationships between the fact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ave your map into your portfol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Reflecting on Curriculum Framing Questions to Support Thinking Ski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uss thoughts about using Curriculum Framing Questions in your classroo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41D46-BCD2-4465-8424-7EEA56D40C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Module 3: Creating Curriculum Framing Questions to Support Thinking Skills</a:t>
            </a:r>
            <a:br>
              <a:rPr sz="12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Extension Activity 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cusing on Essential Questions -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3.20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860a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Go to </a:t>
            </a:r>
            <a:r>
              <a:rPr b="0" lang="en-AU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tmd.com.au</a:t>
            </a:r>
            <a:r>
              <a:rPr b="0" lang="en-AU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/education/thinking/resources</a:t>
            </a: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860a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From the Curriculum Framing Questions folder download and review the additional resources including </a:t>
            </a:r>
            <a:r>
              <a:rPr b="0" i="1" lang="en-AU" sz="1600" spc="-1" strike="noStrike">
                <a:solidFill>
                  <a:srgbClr val="0860a8"/>
                </a:solidFill>
                <a:latin typeface="Verdana"/>
              </a:rPr>
              <a:t>The Blue Blood Is Bad, Right? </a:t>
            </a: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and</a:t>
            </a:r>
            <a:r>
              <a:rPr b="0" i="1" lang="en-AU" sz="1600" spc="-1" strike="noStrike">
                <a:solidFill>
                  <a:srgbClr val="0860a8"/>
                </a:solidFill>
                <a:latin typeface="Verdana"/>
              </a:rPr>
              <a:t> the Curriculum Framing Questions Rubric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860a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You may wish to revise your Curriculum Framing Questions before sharing them in the next modul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647E4-BA99-456A-BED9-7293BA22FA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ere We Were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Module 1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4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argeting Thinking in the Classroom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argeting higher order think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eating your own taxonom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Tool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Module 2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Designing Project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steps for project plann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dentify standards/syllabus outcomes that target higher order thinking skill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ways to use a project-based approach to learn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dentify influences that affect thinking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EEA5A-62F4-438D-8C03-9DF192DED0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3: Creating Curriculum Framing Questions to Support Thinking Skills</a:t>
            </a:r>
            <a:br>
              <a:rPr sz="1400"/>
            </a:br>
            <a:br>
              <a:rPr sz="14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Module 3 </a:t>
            </a:r>
            <a:br>
              <a:rPr sz="24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Summary</a:t>
            </a: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3.22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60360" y="1743120"/>
          <a:ext cx="8332920" cy="3376440"/>
        </p:xfrm>
        <a:graphic>
          <a:graphicData uri="http://schemas.openxmlformats.org/drawingml/2006/table">
            <a:tbl>
              <a:tblPr/>
              <a:tblGrid>
                <a:gridCol w="83329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Module 3 Key Poi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30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173160" indent="-171720">
                        <a:spcBef>
                          <a:spcPts val="799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losed questions ask students to understand facts and procedur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173160" indent="-171720">
                        <a:spcBef>
                          <a:spcPts val="799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urriculum Framing Questions consist of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Essential Questions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—big overarching ide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nit Questions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—open-ended questions that support the exploration of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one part of the Essential Ques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 Questions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—supporting, fact-focused questions that are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required to understand and answer the Essential and Unit Ques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657C8-C4A8-40E3-95B5-712AAF59E4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Next Module 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57320"/>
            <a:ext cx="8237520" cy="46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Module 4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lanning Student-Centered Assessmen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uss assessment metho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howing Evidence Tool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 evaluate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sessment ide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aft an Assessment Pla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56CB4-987C-432F-837A-7507D78A61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65480" y="2084400"/>
            <a:ext cx="4500360" cy="224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98113-9F8D-47FC-B07A-3EF077E625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ere We Are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Module 3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reating Curriculum Framing Questions to Support 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hinking Skill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derstand different types of questions used in the classroo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reate and revise Curriculum Framing Ques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dentify influences affecting thinking from the perspective of a stud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51A2C-F0E7-4612-94C1-04FBB24503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ere We Are Going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923760"/>
          <a:ext cx="8237520" cy="4660920"/>
        </p:xfrm>
        <a:graphic>
          <a:graphicData uri="http://schemas.openxmlformats.org/drawingml/2006/table">
            <a:tbl>
              <a:tblPr/>
              <a:tblGrid>
                <a:gridCol w="1982880"/>
                <a:gridCol w="6254640"/>
              </a:tblGrid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4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lanning Student-Centered Assess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5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Visual Ranking Tool to Target Thinking Skil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6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Visual Ranking Tool for 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7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Seeing Reason Tool to Target Thinking Skil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8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Seeing Reason Tool for 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9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Showing Evidence Tool to Target Thinking Skil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10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Showing Evidence Tool for 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11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mpleting 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B0A0F-7E3C-48C0-B0AB-D494212DC5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Module 3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reating Curriculum Framing Questions to Support Thinking Skills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114800" y="1676160"/>
            <a:ext cx="45784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Objecti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71360" indent="-17136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nk questions according to their potential for generating deeper thinking in the classroo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nderstand the different types of questions used in the classroo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nderstand the use of Curriculum Framing Ques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actice revising and creating Curriculum Framing Ques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eate a set of Curriculum Framing Questions for your own classroo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dentify positive and negative influences that can affect thinking—from the perspective of a stu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2920" y="1542960"/>
            <a:ext cx="3948120" cy="39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302F4-EF21-4979-A47E-D782E20DB2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3: Creating Curriculum Framing Questions to Suppor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y 1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Asking Questions in the Classroom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3.01 – 3.03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9280" y="1676520"/>
            <a:ext cx="8237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Understanding Open and Closed Ques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losed ques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est factual knowledg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ntain limited range of correct respon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pen ques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uild upon factual knowledg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mote higher order think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Group Reflection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3.03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hat is the right balance between open and closed questions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How can you ensure students are really thinking more deeply when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ing open ended questions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17E4B-19A0-4891-9E04-D4916D3EC7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3: Creating Curriculum Framing Questions to Support Thinking Skills</a:t>
            </a:r>
            <a:br>
              <a:rPr sz="1200"/>
            </a:br>
            <a:br>
              <a:rPr sz="10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1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375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3: Reflecting on Questions Used in Your Classroom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-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3.03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 on the questions used in a typical day in your classroom, as you consider your experience with and attitude to questioning techniques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A420F-112E-44B7-A0AD-F47A69089A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3: Creating Curriculum Framing Questions to Suppor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veloping Curriculum Framing Questions </a:t>
            </a:r>
            <a:br>
              <a:rPr sz="2400"/>
            </a:b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3.04 – 3.12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041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Defining Curriculum Framing Questions -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3.04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Ques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 overarching, foundational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“big idea” ques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an help focus several uni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an be used over the  course of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yea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ampl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at does it take to change the world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49760" y="1500120"/>
            <a:ext cx="4043520" cy="408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D25C1-3785-4149-B99C-2BCD602C17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3: Creating Curriculum Framing Questions to Support Thinking Skills</a:t>
            </a:r>
            <a:br>
              <a:rPr sz="10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600"/>
            </a:b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5869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Unit Questions -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3.04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 unit-specific, open-ended questions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lp build understanding for th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ssential Ques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ampl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y leave one’s home to make a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ew life in a strange land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94400" y="990720"/>
            <a:ext cx="4449600" cy="44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D221F-BB7A-4B31-A6E3-65D4A7F847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stephanie.georges</cp:lastModifiedBy>
  <dcterms:modified xsi:type="dcterms:W3CDTF">2009-01-21T03:15:09Z</dcterms:modified>
  <cp:revision>106</cp:revision>
  <dc:subject/>
  <dc:title>Presentation Title Goes Here</dc:title>
</cp:coreProperties>
</file>